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495-CA00-4576-AF48-34152DE6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8B1-C85C-4FBD-BE30-67CD5765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49F-2ECB-46F3-8AE0-6FAACE0B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D0C-FD12-43C9-9E8B-E6907403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68C-C943-4A37-AB61-A8A6A1BD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E88-3F33-44BA-AB32-C7E4BAF9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D1E-9C8E-4846-B61A-0D1F662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5AF-4824-44E3-9399-BE21BBAF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67F-D99A-4F72-98CD-5D3240BE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FDC-1CD6-40E5-9891-CAA9101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799-E165-47D3-880F-D42955D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911-9DD7-42DA-BF37-D8D99BA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2BFA-FAC1-41EC-8FC2-E959C067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prezentáci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hozzáféréshetősége jelenleg tiltott. Ezt a </a:t>
            </a: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prezentáci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csak Microsoft Office 2003 vagy későbbi verzióval nyithatja meg. Kérjen másolatot a </a:t>
            </a: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prezentáci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észítőjétől mely hozzáférést biztosít az Internet Explorer Rights Management bővítmény használatáv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10-12-06T21:53:53Z</dcterms:modified>
  <cp:revision>82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